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B940-5FCB-4C84-800D-D01A20D8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AB74-6839-4DD3-8159-28C79E92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21F-4EFB-4C3C-B95E-D101ABFD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E8AA-E40F-40AE-B8CE-127BC63C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1F46-4A5B-4630-8AD4-3600855C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356-9212-4777-B381-BE7926B1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AFE-2F35-4251-B1E8-71962A6D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358-35D7-4297-816E-2FDC7F86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7F5C-F6E5-460F-BEE9-F5D3D7B3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1A7-46EC-408C-87E8-343146B4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9489-2D56-45BB-AFA2-4165B074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AF1-BE48-4C92-BAAB-370E39F5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FD3B-2E19-4CBE-983B-3DBA760097B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33DA-91A0-4D68-A700-A6F4F3C47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Garamond"/>
                <a:hlinkClick r:id="rId2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Garamond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Garamond"/>
                <a:hlinkClick r:id="rId6" action="ppaction://hlinksldjump"/>
              </a:rPr>
              <a:t>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Garamond"/>
                <a:hlinkClick r:id="rId8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Garamond"/>
                <a:hlinkClick r:id="rId10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Garamond"/>
                <a:hlinkClick r:id="rId12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Garamond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Garamond"/>
                <a:hlinkClick r:id="rId16" action="ppaction://hlinksldjump"/>
              </a:rPr>
              <a:t>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Garamond"/>
                <a:hlinkClick r:id="rId18" action="ppaction://hlinksldjump"/>
              </a:rPr>
              <a:t>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Garamond"/>
                <a:hlinkClick r:id="rId20" action="ppaction://hlinksldjump"/>
              </a:rPr>
              <a:t>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3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4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7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8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9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0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3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4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$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Po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oot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Social Stud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Re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Gladiator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Rea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Ecosystem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a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6858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tone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 the poem “It Couldn’t Be Done”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6765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1295280"/>
            <a:ext cx="632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determination and persevera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990720"/>
            <a:ext cx="5791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2952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root word means “to hear”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198108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udi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45720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root words means “see, look”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95280" y="41911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1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ILY DOU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12193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vis” and “spect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53352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root words mean “voice, call”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106668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voc” and “vok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2193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600200"/>
            <a:ext cx="7619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76212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root words mean “to write”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1600200"/>
            <a:ext cx="5943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9907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crip” and “script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914400"/>
            <a:ext cx="6324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ow many stanzas are there in the poem “It Couldn’t Be Done”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1447920"/>
            <a:ext cx="65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root words mean “to speak”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1752480"/>
            <a:ext cx="670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1828800"/>
            <a:ext cx="624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1371600"/>
            <a:ext cx="518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locu” and “loqu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17524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838080"/>
            <a:ext cx="6858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106668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67040" y="990720"/>
            <a:ext cx="5211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ere did the gladiator games originat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16765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o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04920"/>
            <a:ext cx="8686800" cy="7617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762120"/>
            <a:ext cx="68580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was a gladiato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o were the gladiator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457200"/>
            <a:ext cx="6858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1219320"/>
            <a:ext cx="5334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04920"/>
            <a:ext cx="89154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ladiator was the superstar of the gladiator games or “blood” gam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diators were often prisoners of war, convicted criminals, poor men with little chance of a comfortable life, or thrill-seekers who wanted adven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99072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685800"/>
            <a:ext cx="65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were the three types of gladiator game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23880" y="44197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1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ILY DOU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1600200"/>
            <a:ext cx="6324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65040"/>
            <a:ext cx="784872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-against-man events – two men fought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-against-animal events - an animal was pitted against a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imal-against-animal events – two wild animals fought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21932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were the two reasons for gladiator games to e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914400"/>
            <a:ext cx="5943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106668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was too expensive to pay for structures and costum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fluence of Christianity – which opposed to the killing of human bein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1600200"/>
            <a:ext cx="5867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22860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r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219320"/>
            <a:ext cx="914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121932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y did the Roman citizens not feel the games were barbaric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1066680"/>
            <a:ext cx="678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y felt that these were men who had been condemned to death anywa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1523880"/>
            <a:ext cx="5410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13716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an ecosyste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1600200"/>
            <a:ext cx="5867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systems are groups of life forms that interact with each other and the nonliving parts of the environm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06668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are the three different types of forest ecosystem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838080"/>
            <a:ext cx="6096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Hardwood, evergreen, and tropical rain fores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066680"/>
            <a:ext cx="693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ich ecosystems provide a home for wildlif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95280" y="4343400"/>
            <a:ext cx="5943600" cy="2133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1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ILY DOU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1143000"/>
            <a:ext cx="6096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447920" y="130212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opical rain forests, deserts, grasslands, coastal and tundra ecosys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00200"/>
            <a:ext cx="9144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ow are the tropical rainforests beneficial?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ree way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988200"/>
            <a:ext cx="624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elp clean the a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vide homes for wildlif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upply us with fruits, nuts, and medici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1600200"/>
            <a:ext cx="4648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1676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685800"/>
            <a:ext cx="6934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the poem “Weather”, 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Dot a dot dot dot a dot dot”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Spack a spack speck,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ick a flack fleck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” is what type of figurative speech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838080"/>
            <a:ext cx="6324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228600"/>
            <a:ext cx="716256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are the seven different types of ecosystems listed in the readin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are ecosystems different based on their loc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877320"/>
            <a:ext cx="624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forest, coastal, desert, grassland, tundra, freshwater, and oce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ach ecosystem has a particular type of climate and different types of soi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62320" y="1371600"/>
            <a:ext cx="4876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0"/>
            <a:ext cx="7772400" cy="75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ading #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down “F” if it is fact or “I” if it is infer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r. Beren noticed a large green parrot in a c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r. Beren was curio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arrot’s behavior amused Mr. Ber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685800"/>
            <a:ext cx="73915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fere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fere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838080"/>
            <a:ext cx="9144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ading #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ain idea of this paragraph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siness meetings in ancient R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blic bathhouses in ancient R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orations in Roman bathhou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Romans got clean long a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219320"/>
            <a:ext cx="632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b.  Public bathhouses in ancient Ro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762120"/>
            <a:ext cx="8839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eading #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do you think Rosario’s job i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re do you think Rosario liv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838080"/>
            <a:ext cx="708660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eache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clue:  grading paper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big cit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clue: horns honking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04920"/>
            <a:ext cx="8915400" cy="60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ing #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phrase best reflects the writer’s point of vie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ing of the dog 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set with the hot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raged about so much attention being given to d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word in the passage is a clue to how the writer feels about the hotel servi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wonderful  b.  healthy  c.  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990720"/>
            <a:ext cx="81532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pproving of the dog treatme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onderfu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1523880"/>
            <a:ext cx="5790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057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lliter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609480"/>
            <a:ext cx="8153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8915400" cy="63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#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is paragraph you c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lud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el on the Silk Route was safe and e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npowder was an unimportant Chinese i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s were also exchanged along the Silk Ro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s charged in the West for silk were too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e paragraph you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anno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kind of land the Silk Route cro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s of some of the cities along the Silk Ro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goods from the West traders brought to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Chinese first began making si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1828800"/>
            <a:ext cx="7315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1143000"/>
            <a:ext cx="8610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ideas were also exchanged along the Silk Ro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the names of some of the cities along the Silk Ro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066680"/>
            <a:ext cx="755964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the poem “First Snow”, “The bushes look like popcorn balls” is what type of figurative spee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Why are the bushes compared to popcorn bal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1066680"/>
            <a:ext cx="4952880" cy="62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hes and popcorn balls are being compared because the popcorn balls will give us a picture in our minds what the bushes look li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685800"/>
            <a:ext cx="8915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0"/>
            <a:ext cx="6781680" cy="65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oem “Dreams” and “Snowboarding”, these statements are examples of what figurative spee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 is a broken-winged bird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now is butter”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am a bulle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oem “Noises”, these phrases are examples of what figurative spee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queak of a mouse”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woosh of the air”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jingle of the bell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1676520"/>
            <a:ext cx="480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1219320"/>
            <a:ext cx="6705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metapho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onomatopoei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Brandon Valley School District</cp:lastModifiedBy>
  <dcterms:modified xsi:type="dcterms:W3CDTF">2008-04-04T15:06:22Z</dcterms:modified>
  <cp:revision>56</cp:revision>
  <dc:subject/>
  <dc:title>Blank Jeopardy</dc:title>
</cp:coreProperties>
</file>